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6D39-F534-4ABE-812C-9A61FBF4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3F4-4C43-4A72-93A4-86635897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9862-82E9-4794-B9A5-51B9C676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A4B-7D1C-46BD-AD2E-3DD7B9A3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E40E-833B-48C4-A444-45BE9E83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37E8-326E-4CC4-A853-7AF24B2A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9400-C8BF-4B8A-8818-A37484C9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0C7D-1241-49AB-8825-3BCFF0BD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8FDA-370E-4E61-8DB5-E8CA2548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E931-D328-4543-8933-6A6FCB6C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962D-0950-4028-9849-DC25F35E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0D7A-FB9E-41A9-BAF7-72A22675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83E0-6744-47F2-A0FD-B58B0A50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C6AE-D90F-4184-868A-001A6610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01D0-A9F8-415C-966E-2150614C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F672-D287-4FE1-95FF-D7D0D39A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3277-C894-4A19-A6B8-603F37A1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0CA4-A245-42AA-A0F9-7F94B32E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0BEB-C5A2-46D8-91CF-7413C150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91AC-82A6-4B7E-98AB-C0122421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81D-BF65-43BB-A1D9-C4C0563B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41C5-8EF8-45C0-B663-A978F926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54BC-3279-4751-92BB-C00D31B4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E3F-B0B8-42D7-B197-EBBE35A1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90A8-A79D-42B5-9DC0-83E0DF8391B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A35B-CF57-4382-AC0E-3183A0B92D2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301680" y="2142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Practice </a:t>
            </a:r>
            <a:fld id="{27646813-DEF6-47EF-8D05-EBE85A91413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000080" y="1571760"/>
            <a:ext cx="4143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27"/>
          <p:cNvSpPr/>
          <p:nvPr/>
        </p:nvSpPr>
        <p:spPr>
          <a:xfrm>
            <a:off x="271440" y="11811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1143000" y="1488960"/>
            <a:ext cx="44290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 τῳ κοσμ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ς τους οὐραν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ς τα πλο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 της οἰκι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ο του ἱερ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 τῃ ἐκκλησι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rom the he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o the crow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way from hi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4772160" y="16272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he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4772160" y="218124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o the heav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4782960" y="27288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wards the boa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4772160" y="3286080"/>
            <a:ext cx="344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ut of (from) the ho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4772160" y="3814920"/>
            <a:ext cx="38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away) from the te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4772160" y="4357800"/>
            <a:ext cx="351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he Church (assembl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4772160" y="4875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 της καρδι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4782960" y="54054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ς τους ὀχλ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4772160" y="5910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ο του αὐτ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301680" y="2142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MORE PREPOSITION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Practice </a:t>
            </a:r>
            <a:fld id="{B9500FD5-61D2-4852-A6FA-EEE659719B5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000080" y="1571760"/>
            <a:ext cx="4143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27"/>
          <p:cNvSpPr/>
          <p:nvPr/>
        </p:nvSpPr>
        <p:spPr>
          <a:xfrm>
            <a:off x="271440" y="11811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1143000" y="1488960"/>
            <a:ext cx="44290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ετ’ αὐ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ια τον νομο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τα του θε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ερ του κυρι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 τον θεο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ια του Χριστ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out lo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ut of the s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der the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4772160" y="16272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ith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4772160" y="2181240"/>
            <a:ext cx="29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cause of the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4782960" y="27288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gainst G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4772160" y="3286080"/>
            <a:ext cx="344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 behalf of the L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4772160" y="3814920"/>
            <a:ext cx="38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rom G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4772160" y="4357800"/>
            <a:ext cx="351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rough Chr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4772160" y="4875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ρι (της) ἀγαπ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4782960" y="54054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 (της) θαλασ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4772160" y="5910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ο την γη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027"/>
          <p:cNvSpPr/>
          <p:nvPr/>
        </p:nvSpPr>
        <p:spPr>
          <a:xfrm>
            <a:off x="271440" y="1170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301680" y="2142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Practice </a:t>
            </a:r>
            <a:fld id="{2C4988DF-C272-4846-9288-0A8BD93A72E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0" y="1649520"/>
            <a:ext cx="5429160" cy="46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δια τον λογον του κυριου πιστευω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ὁ Ἰησους ἀγει τους ἀδελφους προς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τα πλοι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λαλαουσιν αὐτῳ περι του ἱερ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λεγει ὁ κυριος της οἰκιας ὑπερ το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τεκν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ὁ υἱος λαμβανει τον ἀρτον μετ’ αὐτ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ὁ θεος φιλει τα ἐργα κατα τον νομον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781520" y="167004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believe because of the word of the Lord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4772160" y="23670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sus is leading the brothers towards the boa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786200" y="34290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speaking to him about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786200" y="41022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ster of the household speaks on behalf of his chi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4797360" y="515772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on takes the bread with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4786200" y="58644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d loves the deeds according to the la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Practice </a:t>
            </a:r>
            <a:fld id="{B27398B4-1B8A-4C2D-B582-CD0EC28AB05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301680" y="2142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27"/>
          <p:cNvSpPr/>
          <p:nvPr/>
        </p:nvSpPr>
        <p:spPr>
          <a:xfrm>
            <a:off x="271440" y="1170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42920" y="1755720"/>
            <a:ext cx="5429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ὁ Παυλος λεγει τῳ λαῳ κατα το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Χριστου του θε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4929120" y="17748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ul speaks to the people against God’s messia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4929120" y="253692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leading the children into the ho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4929120" y="322740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επω αὐτο ἐν τῃ καρδια αὐτ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4929120" y="392904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Ἰησους διδασκει τον ὀχλον ἐξω του ἱερ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4929120" y="471492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θεος φιλει τους λαους ὑπο (τον) οὐραν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0"/>
          <p:cNvSpPr/>
          <p:nvPr/>
        </p:nvSpPr>
        <p:spPr>
          <a:xfrm>
            <a:off x="4929120" y="552780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θεος λεγει τον νομον δια ἀγγελων (δι’ ἀγγελω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1"/>
          <p:cNvSpPr/>
          <p:nvPr/>
        </p:nvSpPr>
        <p:spPr>
          <a:xfrm>
            <a:off x="136440" y="2517840"/>
            <a:ext cx="54291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ἀγουσιν τα τεκνα εἰς τον οἰκο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142920" y="3214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see it in her he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3"/>
          <p:cNvSpPr/>
          <p:nvPr/>
        </p:nvSpPr>
        <p:spPr>
          <a:xfrm>
            <a:off x="157320" y="407196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sus is teaching the crowd outside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4"/>
          <p:cNvSpPr/>
          <p:nvPr/>
        </p:nvSpPr>
        <p:spPr>
          <a:xfrm>
            <a:off x="146160" y="47386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d loves the peoples under hea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139680" y="55418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d speaks the law through ang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85800" y="1643040"/>
            <a:ext cx="7772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ch of the following would use an instrumental dative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Gree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428840" y="264312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ent with h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428840" y="335772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as hit by a st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428840" y="407196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as helped by 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433520" y="478152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as walking with a sti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Practice </a:t>
            </a:r>
            <a:fld id="{9A1164BA-174F-45C7-B844-F5D7642FAB6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21420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INSTRUMENTS AND D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eft Arrow 9"/>
          <p:cNvSpPr/>
          <p:nvPr/>
        </p:nvSpPr>
        <p:spPr>
          <a:xfrm>
            <a:off x="5214960" y="3405240"/>
            <a:ext cx="682560" cy="366840"/>
          </a:xfrm>
          <a:prstGeom prst="leftArrow">
            <a:avLst>
              <a:gd name="adj1" fmla="val 50000"/>
              <a:gd name="adj2" fmla="val 4997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eft Arrow 10"/>
          <p:cNvSpPr/>
          <p:nvPr/>
        </p:nvSpPr>
        <p:spPr>
          <a:xfrm>
            <a:off x="5214960" y="4862520"/>
            <a:ext cx="682560" cy="366840"/>
          </a:xfrm>
          <a:prstGeom prst="leftArrow">
            <a:avLst>
              <a:gd name="adj1" fmla="val 50000"/>
              <a:gd name="adj2" fmla="val 4997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87480" y="24768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.5 and 4.6 QUESTIONS &amp; NEG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1000080" y="2095560"/>
            <a:ext cx="41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27"/>
          <p:cNvSpPr/>
          <p:nvPr/>
        </p:nvSpPr>
        <p:spPr>
          <a:xfrm>
            <a:off x="271440" y="1285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1143000" y="2013120"/>
            <a:ext cx="44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θεος ἀκουε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θεος οὐκ ἀκου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ως ἡ καρδια λεγε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 πιστευω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υ ἀγεις τον ὀχλ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ν νομ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ηρειτε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4572000" y="21510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es God hea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4572000" y="2705040"/>
            <a:ext cx="27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od does not h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4583160" y="3252960"/>
            <a:ext cx="371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w does the heart spea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572000" y="3809880"/>
            <a:ext cx="34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 do not believe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4572000" y="4336920"/>
            <a:ext cx="451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re are you leading the crow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4572000" y="4881600"/>
            <a:ext cx="351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 you keep the law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5:58:03Z</dcterms:created>
  <dc:creator>Sarah</dc:creator>
  <dc:description/>
  <dc:language>en-US</dc:language>
  <cp:lastModifiedBy>Sarah</cp:lastModifiedBy>
  <dcterms:modified xsi:type="dcterms:W3CDTF">2009-07-11T20:06:06Z</dcterms:modified>
  <cp:revision>36</cp:revision>
  <dc:subject/>
  <dc:title>Slide 1</dc:title>
</cp:coreProperties>
</file>